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88840" y="3542760"/>
            <a:ext cx="736632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3440" y="88884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888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3440" y="3542760"/>
            <a:ext cx="359460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932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701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8884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932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701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12960" indent="-40428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224720" indent="-40392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48360" indent="-40392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marL="1860480" indent="-40428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marL="1860480" indent="-40428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marL="1860480" indent="-404280">
              <a:spcBef>
                <a:spcPts val="33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65200" indent="-36216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887760" indent="-3625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209960" indent="-36216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44400" indent="-36216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4" marL="1866600" indent="-3625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5" marL="1866600" indent="-3625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6" marL="1866600" indent="-3625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5460840" y="1942920"/>
            <a:ext cx="2794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51600" indent="-26604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888120" indent="-2656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133640" indent="-2656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4" marL="1370160" indent="-26604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5" marL="1370160" indent="-26604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6" marL="1370160" indent="-26604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20280" indent="-41724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42840" indent="-41760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265040" indent="-41724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99480" indent="-41724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4" marL="1922040" indent="-41760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5" marL="1922040" indent="-41760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6" marL="1922040" indent="-417600">
              <a:spcBef>
                <a:spcPts val="1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6632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80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44240" y="3454200"/>
            <a:ext cx="4127400" cy="232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44240" y="1079280"/>
            <a:ext cx="4127400" cy="232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444240" y="3454200"/>
            <a:ext cx="4127400" cy="232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44240" y="1079280"/>
            <a:ext cx="4127400" cy="232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558720" y="2209680"/>
            <a:ext cx="8039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hy do these NFL teams take the names of European invaders from 1000 years ago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31640" y="-394200"/>
            <a:ext cx="8585280" cy="7340760"/>
          </a:xfrm>
          <a:prstGeom prst="rect">
            <a:avLst/>
          </a:prstGeom>
          <a:noFill/>
          <a:ln w="0">
            <a:noFill/>
          </a:ln>
        </p:spPr>
        <p:txBody>
          <a:bodyPr lIns="38160" rIns="30600" tIns="38160" bIns="38160" anchor="ctr">
            <a:normAutofit/>
          </a:bodyPr>
          <a:p>
            <a:pPr marL="587520" indent="0">
              <a:lnSpc>
                <a:spcPct val="100000"/>
              </a:lnSpc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 algn="ctr">
              <a:lnSpc>
                <a:spcPct val="10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fe"/>
                </a:solidFill>
                <a:latin typeface="Gill Sans"/>
              </a:rPr>
              <a:t>Feudalism Intro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>
              <a:lnSpc>
                <a:spcPct val="10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"/>
              </a:rPr>
              <a:t>Feudalism is based on mutual obligations.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  <a:p>
            <a:pPr lvl="1" marL="907920" indent="-282600">
              <a:lnSpc>
                <a:spcPct val="100000"/>
              </a:lnSpc>
              <a:spcBef>
                <a:spcPts val="3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Gill Sans"/>
              </a:rPr>
              <a:t>In exchange for military protection, a </a:t>
            </a:r>
            <a:r>
              <a:rPr b="1" lang="en-US" sz="36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lord</a:t>
            </a:r>
            <a:r>
              <a:rPr b="0" lang="en-US" sz="3600" spc="-1" strike="noStrike">
                <a:solidFill>
                  <a:srgbClr val="d90b00"/>
                </a:solidFill>
                <a:latin typeface="Gill Sans"/>
              </a:rPr>
              <a:t> or landowner granted land which was called a </a:t>
            </a:r>
            <a:r>
              <a:rPr b="1" lang="en-US" sz="36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fief.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marL="907920" indent="-282600">
              <a:lnSpc>
                <a:spcPct val="100000"/>
              </a:lnSpc>
              <a:spcBef>
                <a:spcPts val="3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Gill Sans"/>
              </a:rPr>
              <a:t>The person receiving the fief was called a </a:t>
            </a:r>
            <a:r>
              <a:rPr b="1" lang="en-US" sz="36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vassa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0" name=""/>
            <p:cNvSpPr/>
            <p:nvPr/>
          </p:nvSpPr>
          <p:spPr>
            <a:xfrm>
              <a:off x="7924680" y="38862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72200" y="2743200"/>
              <a:ext cx="23623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45920" y="2886480"/>
              <a:ext cx="68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ctr">
              <a:sp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rds</a:t>
              </a:r>
              <a:endParaRPr b="0" lang="en-US" sz="2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0" y="-89280"/>
            <a:ext cx="4038480" cy="6946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-25560" y="228240"/>
            <a:ext cx="9601200" cy="6527880"/>
          </a:xfrm>
          <a:prstGeom prst="rect">
            <a:avLst/>
          </a:prstGeom>
          <a:noFill/>
          <a:ln w="0">
            <a:noFill/>
          </a:ln>
        </p:spPr>
        <p:txBody>
          <a:bodyPr lIns="38160" rIns="30600" tIns="38160" bIns="38160" anchor="ctr">
            <a:normAutofit/>
          </a:bodyPr>
          <a:p>
            <a:pPr marL="587520" indent="-411480" algn="ctr">
              <a:lnSpc>
                <a:spcPct val="10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3dcc"/>
                </a:solidFill>
                <a:latin typeface="Gill Sans"/>
              </a:rPr>
              <a:t>Social Classes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>
              <a:lnSpc>
                <a:spcPct val="10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Gill Sans"/>
              </a:rPr>
              <a:t>In the feudal system, status defined a person’s prestige and power.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>
              <a:lnSpc>
                <a:spcPct val="10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90b00"/>
                </a:solidFill>
                <a:latin typeface="Gill Sans"/>
              </a:rPr>
              <a:t>There were three groups</a:t>
            </a:r>
            <a:endParaRPr b="0" lang="en-US" sz="3700" spc="-1" strike="noStrike">
              <a:solidFill>
                <a:srgbClr val="ffffff"/>
              </a:solidFill>
              <a:latin typeface="Gill Sans"/>
            </a:endParaRPr>
          </a:p>
          <a:p>
            <a:pPr lvl="1" marL="907920" indent="-282600">
              <a:lnSpc>
                <a:spcPct val="100000"/>
              </a:lnSpc>
              <a:spcBef>
                <a:spcPts val="3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90b00"/>
                </a:solidFill>
                <a:latin typeface="Gill Sans"/>
              </a:rPr>
              <a:t>Those who Ruled (King)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907920" indent="-282600">
              <a:lnSpc>
                <a:spcPct val="100000"/>
              </a:lnSpc>
              <a:spcBef>
                <a:spcPts val="3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90b00"/>
                </a:solidFill>
                <a:latin typeface="Gill Sans"/>
              </a:rPr>
              <a:t>Those who Fought (Knight and Lord)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  <a:p>
            <a:pPr lvl="1" marL="907920" indent="-282600">
              <a:lnSpc>
                <a:spcPct val="100000"/>
              </a:lnSpc>
              <a:spcBef>
                <a:spcPts val="3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90b00"/>
                </a:solidFill>
                <a:latin typeface="Gill Sans"/>
              </a:rPr>
              <a:t>Those who worked (peasants)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0" y="444240"/>
            <a:ext cx="9423360" cy="6311880"/>
          </a:xfrm>
          <a:prstGeom prst="rect">
            <a:avLst/>
          </a:prstGeom>
          <a:noFill/>
          <a:ln w="0">
            <a:noFill/>
          </a:ln>
        </p:spPr>
        <p:txBody>
          <a:bodyPr lIns="38160" rIns="30600" tIns="38160" bIns="38160" anchor="ctr">
            <a:normAutofit/>
          </a:bodyPr>
          <a:p>
            <a:pPr marL="587520" indent="-411480" algn="ctr">
              <a:lnSpc>
                <a:spcPct val="9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dcc"/>
                </a:solidFill>
                <a:uFillTx/>
                <a:latin typeface="Lucida Grande"/>
                <a:ea typeface="Lucida Grande"/>
              </a:rPr>
              <a:t>Peasent-Serf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>
              <a:lnSpc>
                <a:spcPct val="9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Serfs</a:t>
            </a:r>
            <a:r>
              <a:rPr b="0" lang="en-US" sz="2600" spc="-1" strike="noStrike">
                <a:solidFill>
                  <a:srgbClr val="d90b00"/>
                </a:solidFill>
                <a:latin typeface="Gill Sans"/>
              </a:rPr>
              <a:t> were people who could not lawfully leave the place they were born. 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>
              <a:lnSpc>
                <a:spcPct val="9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Gill Sans"/>
              </a:rPr>
              <a:t>They were not slaves, they could not be bought or sold.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>
              <a:lnSpc>
                <a:spcPct val="9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e wealth of the feudal lords came from the labor of peasants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041480" y="5232240"/>
            <a:ext cx="373356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50911" dir="2700000" blurRad="0" rotWithShape="0">
              <a:srgbClr val="7d7d7d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-291960" y="419040"/>
            <a:ext cx="9727920" cy="6400800"/>
          </a:xfrm>
          <a:prstGeom prst="rect">
            <a:avLst/>
          </a:prstGeom>
          <a:noFill/>
          <a:ln w="0">
            <a:noFill/>
          </a:ln>
        </p:spPr>
        <p:txBody>
          <a:bodyPr lIns="38160" rIns="30600" tIns="38160" bIns="38160" anchor="ctr">
            <a:normAutofit/>
          </a:bodyPr>
          <a:p>
            <a:pPr marL="587520" indent="-411480" algn="ctr">
              <a:lnSpc>
                <a:spcPct val="10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Gill Sans"/>
              </a:rPr>
              <a:t>Man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>
              <a:lnSpc>
                <a:spcPct val="10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Gill Sans"/>
              </a:rPr>
              <a:t>The </a:t>
            </a:r>
            <a:r>
              <a:rPr b="1" lang="en-US" sz="2800" spc="-1" strike="noStrike" u="sng">
                <a:solidFill>
                  <a:srgbClr val="d90b00"/>
                </a:solidFill>
                <a:uFillTx/>
                <a:latin typeface="Lucida Grande"/>
                <a:ea typeface="Lucida Grande"/>
              </a:rPr>
              <a:t>manor </a:t>
            </a:r>
            <a:r>
              <a:rPr b="0" lang="en-US" sz="2800" spc="-1" strike="noStrike">
                <a:solidFill>
                  <a:srgbClr val="d90b00"/>
                </a:solidFill>
                <a:latin typeface="Gill Sans"/>
              </a:rPr>
              <a:t>was the lord’s estate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>
              <a:lnSpc>
                <a:spcPct val="10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Gill Sans"/>
              </a:rPr>
              <a:t>The lord provided the serfs with housing and fields, in return the serfs worked the field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87520" indent="-411480">
              <a:lnSpc>
                <a:spcPct val="100000"/>
              </a:lnSpc>
              <a:spcBef>
                <a:spcPts val="3300"/>
              </a:spcBef>
              <a:buClr>
                <a:srgbClr val="f9f9f9"/>
              </a:buClr>
              <a:buSzPct val="62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Gill Sans"/>
              </a:rPr>
              <a:t>Men and women alike worked in the fields.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96160" y="4064040"/>
            <a:ext cx="215892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50911" dir="2700000" blurRad="0" rotWithShape="0">
              <a:srgbClr val="7d7d7d">
                <a:alpha val="65000"/>
              </a:srgbClr>
            </a:outerShdw>
          </a:effectLst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Jared I. Wexler</dc:creator>
  <dc:description/>
  <dc:language>en-US</dc:language>
  <cp:lastModifiedBy/>
  <cp:revision>0</cp:revision>
  <dc:subject/>
  <dc:title>Feudalism in Europe</dc:title>
</cp:coreProperties>
</file>